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2D34-2F64-49C6-9155-38010570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202-96BD-40BF-9A34-705DEC16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F4B-FABF-4205-B10B-0585E568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2C0-8338-481C-9984-D569D8FC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6F86-7D60-49A9-ACE1-D6106BA3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7AEA-1912-46D1-9235-8D06FAE0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F710-A39C-4649-9FA0-A4DE8A11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9E04-C3BD-4E42-85AA-3D048D81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7245-ADD0-40C1-8575-7AB69139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4F02-B733-47C1-A45D-B51DBDF8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B04D-B865-4AA7-8185-356FE715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E7B-2F37-42D4-9EA6-F59FEAB3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4472-5099-4910-9543-E6963146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C449-66AD-48A8-BFAC-8FA3306C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E3D4-AF8B-4921-B162-DC78249D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B402-4EF4-4CF2-BDF9-CB3B1F07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C7F8-7E62-46EE-B653-A1092EBC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465-9DCF-48AA-9BE0-B1766958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05E-AF01-4146-A36E-0E179C1F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522-ED2D-4A49-8520-97A2907F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86D-71EB-4FD5-9333-C0964206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96C-5278-48B2-A972-3CA5CDD0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C397-9A27-4C73-825C-40265F42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20EE-4352-46E7-98D8-4E1FE6F1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EF5D6-5CF6-4548-8C21-0E2A6E29A5F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AFA6F-17F5-4507-B9D6-7001767CBAB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inuteme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By Alex L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o were the Minutemen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793908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minutemen were a group of hand picked men elite force of militia who would get together and fight in a matter of minutes notice to defend their property and peopl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 February of 1775, Concord was one of the first towns to follow the orders to create minutemen. They consisted of around one-hundred militia me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he difference between Minutemen and Milit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7204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militia were men who formed to protect their towns from foreign invas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nutemen were a small hand-picked elite force of militia men who were chosen for their enthusiasm, reliability, and physical strength. They were usually around twenty-five years of age or younge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at about their Weapons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minutemen were armed with muskets and whatever weapons they could find and make their own bullets. They stored their weapons at Concor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British were armed with muskets and a bayonet. It was very hard for the minutemen to defeat the British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ere there such Military forces like this before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Yes. Minutemen were used early in the Massachusetts Bay Colony. . Around the mid 1600's, men were chosen from the militia ranks to be dressed with pikes and accoutrement's within half an hour of being warned. Minute Men also played a role in the French and Indian Wa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redi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These are the websites I got  my information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Gay, Kathyln, and Martin Gay. </a:t>
            </a:r>
            <a:r>
              <a:rPr b="0" i="1" lang="en-US" sz="1600" spc="-1" strike="noStrike">
                <a:solidFill>
                  <a:srgbClr val="595959"/>
                </a:solidFill>
                <a:latin typeface="News Gothic MT"/>
              </a:rPr>
              <a:t>Revolutionary War</a:t>
            </a: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. New York: Henry Holt, 1995. </a:t>
            </a:r>
            <a:br>
              <a:rPr sz="1600"/>
            </a:b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     Print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Joyce Graciela Stellick. </a:t>
            </a:r>
            <a:r>
              <a:rPr b="0" i="1" lang="en-US" sz="1600" spc="-1" strike="noStrike">
                <a:solidFill>
                  <a:srgbClr val="595959"/>
                </a:solidFill>
                <a:latin typeface="News Gothic MT"/>
              </a:rPr>
              <a:t>Minutemen VS. "Minutemen."</a:t>
            </a: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 La-Mano, 1 Apr. 2005. Web. </a:t>
            </a:r>
            <a:br>
              <a:rPr sz="1600"/>
            </a:b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     10 Apr. 2011. &lt;http://dir.groups.yahoo.com/group/la-mano/message/ </a:t>
            </a:r>
            <a:br>
              <a:rPr sz="1600"/>
            </a:b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     1318&gt;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"Minute Men." </a:t>
            </a:r>
            <a:r>
              <a:rPr b="0" i="1" lang="en-US" sz="1600" spc="-1" strike="noStrike">
                <a:solidFill>
                  <a:srgbClr val="595959"/>
                </a:solidFill>
                <a:latin typeface="News Gothic MT"/>
              </a:rPr>
              <a:t>http://www.ushistory.org/people/minutemen.htm</a:t>
            </a: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. Independence Hall </a:t>
            </a:r>
            <a:br>
              <a:rPr sz="1600"/>
            </a:b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     Association, 5 July 1995. Web. 7 Apr. 2011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Rotherfield House. </a:t>
            </a:r>
            <a:r>
              <a:rPr b="0" i="1" lang="en-US" sz="1600" spc="-1" strike="noStrike">
                <a:solidFill>
                  <a:srgbClr val="595959"/>
                </a:solidFill>
                <a:latin typeface="News Gothic MT"/>
              </a:rPr>
              <a:t>The Battle of Concord and Lexington 1775</a:t>
            </a: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. British Battles, 1 </a:t>
            </a:r>
            <a:br>
              <a:rPr sz="1600"/>
            </a:b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     Jan. 2010. Web. 11 Apr. 2011. &lt;http://www.britishbattles.com/ </a:t>
            </a:r>
            <a:br>
              <a:rPr sz="1600"/>
            </a:b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     concord-lexington.htm&gt;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Vitale, Don. </a:t>
            </a:r>
            <a:r>
              <a:rPr b="0" i="1" lang="en-US" sz="1600" spc="-1" strike="noStrike">
                <a:solidFill>
                  <a:srgbClr val="595959"/>
                </a:solidFill>
                <a:latin typeface="News Gothic MT"/>
              </a:rPr>
              <a:t>Early America's Minute-Men</a:t>
            </a: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. Archiving Early America, 1 Jan. 2011. </a:t>
            </a:r>
            <a:br>
              <a:rPr sz="1600"/>
            </a:b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     Web. 10 Apr. 2011. &lt;http://earlyamerica.com/about-us.html&gt;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0:48:27Z</dcterms:created>
  <dc:creator>Eason Jordan</dc:creator>
  <dc:description/>
  <dc:language>en-US</dc:language>
  <cp:lastModifiedBy>WA</cp:lastModifiedBy>
  <dcterms:modified xsi:type="dcterms:W3CDTF">2011-04-11T15:42:51Z</dcterms:modified>
  <cp:revision>16</cp:revision>
  <dc:subject/>
  <dc:title>Minutemen</dc:title>
</cp:coreProperties>
</file>